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326-68AC-4ABB-8C0A-FE6EA786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17E-593E-46B9-9BF1-3F9827A0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957-C5CA-45F6-B4E1-87219DF1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299-0856-484B-AE61-F0C18A1B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3F39-4211-49A7-A5FB-FBFB539A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3106-C4EB-48CC-9913-74B2DB02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CA31-430B-4775-8719-BA1EB94E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DE18-A805-45B2-850B-95E99E0A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D346-E12D-40D1-9DC3-E7880B09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79D-68A2-443C-9261-A9D3CF31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6181-E0B1-40E1-A4EF-55065170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472-78ED-42A3-A0C6-A1584109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0B61-D065-43BC-918B-9616344A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96BE-61A9-42A9-86DB-19E57763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1230-0CD5-4E85-B135-A4F16ACD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4075-4768-407D-9BBE-BE8AD33B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492E-807A-4336-9822-2DCD0077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FB9-5E46-48E4-ACA3-B442368B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694-F67E-4403-BF50-28538D0A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4F1-8B14-400D-9BE2-A99F3FDE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F01-AD8D-4B03-9866-CCC32CA0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DCE-801E-470D-91DA-DD25F5C5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535-79A6-4704-9606-6C4E957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1AA-5D9C-422D-9722-0341F32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93CB-1961-4362-B544-E0D841ED3B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0A55-03B0-471A-B071-5D67C1D810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eckle Face!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dding with style…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ayla Clea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ld your pap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large pap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ld it in half a bunch of time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smiley face in each box  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ll a die, draw the dots on one side of the 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ll again, draw these dots in the other side of the face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unt how many in all, or altogether …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a number sentence in the box that matches the dots  2 + 4 = 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you know how to make Freckle Face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57200"/>
            <a:ext cx="18288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ckle Face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Roll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1905120"/>
            <a:ext cx="4038480" cy="4114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ckle Face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Roll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1905120"/>
            <a:ext cx="4038480" cy="4114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43434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ckle Face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Roll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Roll =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905120"/>
            <a:ext cx="4038480" cy="4114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43434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ckle Face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Roll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Roll =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1905120"/>
            <a:ext cx="4038480" cy="4114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3434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1148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441972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36576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41148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73392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ckle Face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Roll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Roll =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752480"/>
            <a:ext cx="4038480" cy="4114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6576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809880"/>
            <a:ext cx="152280" cy="152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396252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396252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581280"/>
            <a:ext cx="152640" cy="152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43434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57150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3 + 5 = 8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actice Freckle Fa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y this game with fri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y this game at 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2210040" cy="1486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09680" y="4952880"/>
            <a:ext cx="1530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4:37:38Z</dcterms:created>
  <dc:creator> </dc:creator>
  <dc:description/>
  <dc:language>en-US</dc:language>
  <cp:lastModifiedBy> </cp:lastModifiedBy>
  <dcterms:modified xsi:type="dcterms:W3CDTF">2008-04-23T14:50:25Z</dcterms:modified>
  <cp:revision>4</cp:revision>
  <dc:subject/>
  <dc:title>Freckle Face!</dc:title>
</cp:coreProperties>
</file>